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A73E-301B-4AE0-B305-395532F5F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B6C5-D546-480C-9198-E823BD9DE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C8C1-9E15-4236-8608-1C454370E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43FE-F8A3-422F-B498-9B2A9894F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8865-66AA-426D-9363-7C4D49CCD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D7BF-4F84-4447-8AB4-D16396C35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BB9A-698D-4718-AE6F-42B8ED745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DF27-A035-4A18-9575-93BACEA66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25BD-D6A0-47DD-87A2-2382D5DDD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5482-23BB-4434-9DD2-CC15EFBC2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6A48-4FDB-4BA8-905B-CC357FE96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CD42-9287-4FA3-883E-EB8E07EC8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9CD0-5879-4D93-BE33-D04E38A33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3F51-8C84-42EA-BD38-F7049064D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278A-7925-4A39-8117-00E6BD04E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5DD2-F0E1-44CD-BFA8-105AEE37C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43E8-9A06-44BA-9104-FFDF67DC5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4018-8CBC-4BA6-AF67-E3ECAF5B1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4C79-F7DA-4DC9-B05E-0EC210A55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3511-297C-4B94-A851-0C763697B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347A-FC0D-47FD-8BEE-C4AF05055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253B-8239-449F-BF70-8B1BACEB1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1A92-2C74-4286-AE1E-DF6555AD6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AED8-08D4-4A42-B75A-C505C8E23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A7C7-0122-4E7C-B271-98F8264A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8E4-7E40-4441-837A-82DA3B94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7AFF-0790-48E6-8F53-184BEEED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CD5B-8402-404A-A33E-0AA8F033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17B5-E3EE-4B17-8E6C-512394EF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4FC3-7D2C-41A0-B002-86047716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79B-6634-48EF-B066-9AA02427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7152-12C9-4A5A-8FE6-F23E6855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6DED-B14F-4557-960C-DBA5949C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56FB-92A7-4C12-AEB6-9C299E7C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BAF-20B3-4832-B8E4-D85F933A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1B77-DCE1-49F6-A320-D598F272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A7B8-4820-440D-A49D-1B406A960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04920" y="685800"/>
            <a:ext cx="856296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2232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Napata and  Meroe</a:t>
            </a:r>
            <a:endParaRPr b="1" i="1" lang="en-US" sz="8000" spc="1" strike="noStrike">
              <a:ln cap="rnd" w="2232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2590920" y="2971800"/>
            <a:ext cx="4076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648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Ancient Nubian Capitals</a:t>
            </a:r>
            <a:endParaRPr b="1" i="1" lang="en-US" sz="1800" spc="1" strike="noStrike">
              <a:ln cap="rnd" w="648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5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>
            <a:hlinkClick r:id="rId1" action="ppaction://hlinksldjump"/>
          </p:cNvPr>
          <p:cNvSpPr/>
          <p:nvPr/>
        </p:nvSpPr>
        <p:spPr>
          <a:xfrm>
            <a:off x="7162920" y="3049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37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42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47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52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57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62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67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838080"/>
          <a:ext cx="9144000" cy="1067040"/>
        </p:xfrm>
        <a:graphic>
          <a:graphicData uri="http://schemas.openxmlformats.org/drawingml/2006/table">
            <a:tbl>
              <a:tblPr/>
              <a:tblGrid>
                <a:gridCol w="1778040"/>
                <a:gridCol w="1650960"/>
                <a:gridCol w="1523880"/>
                <a:gridCol w="2362320"/>
                <a:gridCol w="1828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apa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ubian Wo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 Hieroglyph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yst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2" name="AutoShape 73">
            <a:hlinkClick r:id="rId1" action="ppaction://hlinksldjump"/>
          </p:cNvPr>
          <p:cNvSpPr/>
          <p:nvPr/>
        </p:nvSpPr>
        <p:spPr>
          <a:xfrm>
            <a:off x="0" y="190512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4"/>
          <p:cNvSpPr/>
          <p:nvPr/>
        </p:nvSpPr>
        <p:spPr>
          <a:xfrm>
            <a:off x="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5">
            <a:hlinkClick r:id="rId2" action="ppaction://hlinksldjump"/>
          </p:cNvPr>
          <p:cNvSpPr/>
          <p:nvPr/>
        </p:nvSpPr>
        <p:spPr>
          <a:xfrm>
            <a:off x="0" y="2971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6"/>
          <p:cNvSpPr/>
          <p:nvPr/>
        </p:nvSpPr>
        <p:spPr>
          <a:xfrm>
            <a:off x="0" y="320040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7">
            <a:hlinkClick r:id="rId3" action="ppaction://hlinksldjump"/>
          </p:cNvPr>
          <p:cNvSpPr/>
          <p:nvPr/>
        </p:nvSpPr>
        <p:spPr>
          <a:xfrm>
            <a:off x="0" y="39625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8"/>
          <p:cNvSpPr/>
          <p:nvPr/>
        </p:nvSpPr>
        <p:spPr>
          <a:xfrm>
            <a:off x="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9">
            <a:hlinkClick r:id="rId4" action="ppaction://hlinksldjump"/>
          </p:cNvPr>
          <p:cNvSpPr/>
          <p:nvPr/>
        </p:nvSpPr>
        <p:spPr>
          <a:xfrm>
            <a:off x="0" y="49528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0">
            <a:hlinkClick r:id="rId5" action="ppaction://hlinksldjump"/>
          </p:cNvPr>
          <p:cNvSpPr/>
          <p:nvPr/>
        </p:nvSpPr>
        <p:spPr>
          <a:xfrm>
            <a:off x="0" y="58672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2"/>
          <p:cNvSpPr/>
          <p:nvPr/>
        </p:nvSpPr>
        <p:spPr>
          <a:xfrm>
            <a:off x="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3"/>
          <p:cNvSpPr/>
          <p:nvPr/>
        </p:nvSpPr>
        <p:spPr>
          <a:xfrm>
            <a:off x="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4">
            <a:hlinkClick r:id="rId6" action="ppaction://hlinksldjump"/>
          </p:cNvPr>
          <p:cNvSpPr/>
          <p:nvPr/>
        </p:nvSpPr>
        <p:spPr>
          <a:xfrm>
            <a:off x="1752480" y="19051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5">
            <a:hlinkClick r:id="rId7" action="ppaction://hlinksldjump"/>
          </p:cNvPr>
          <p:cNvSpPr/>
          <p:nvPr/>
        </p:nvSpPr>
        <p:spPr>
          <a:xfrm>
            <a:off x="1752480" y="29718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6">
            <a:hlinkClick r:id="rId8" action="ppaction://hlinksldjump"/>
          </p:cNvPr>
          <p:cNvSpPr/>
          <p:nvPr/>
        </p:nvSpPr>
        <p:spPr>
          <a:xfrm>
            <a:off x="1752480" y="39625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7">
            <a:hlinkClick r:id="rId9" action="ppaction://hlinksldjump"/>
          </p:cNvPr>
          <p:cNvSpPr/>
          <p:nvPr/>
        </p:nvSpPr>
        <p:spPr>
          <a:xfrm>
            <a:off x="1752480" y="4952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8">
            <a:hlinkClick r:id="rId10" action="ppaction://hlinksldjump"/>
          </p:cNvPr>
          <p:cNvSpPr/>
          <p:nvPr/>
        </p:nvSpPr>
        <p:spPr>
          <a:xfrm>
            <a:off x="17524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9"/>
          <p:cNvSpPr/>
          <p:nvPr/>
        </p:nvSpPr>
        <p:spPr>
          <a:xfrm>
            <a:off x="182880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0"/>
          <p:cNvSpPr/>
          <p:nvPr/>
        </p:nvSpPr>
        <p:spPr>
          <a:xfrm>
            <a:off x="182880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1"/>
          <p:cNvSpPr/>
          <p:nvPr/>
        </p:nvSpPr>
        <p:spPr>
          <a:xfrm>
            <a:off x="182880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2"/>
          <p:cNvSpPr/>
          <p:nvPr/>
        </p:nvSpPr>
        <p:spPr>
          <a:xfrm>
            <a:off x="1752480" y="31240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3"/>
          <p:cNvSpPr/>
          <p:nvPr/>
        </p:nvSpPr>
        <p:spPr>
          <a:xfrm>
            <a:off x="175248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4">
            <a:hlinkClick r:id="rId11" action="ppaction://hlinksldjump"/>
          </p:cNvPr>
          <p:cNvSpPr/>
          <p:nvPr/>
        </p:nvSpPr>
        <p:spPr>
          <a:xfrm>
            <a:off x="3429000" y="29718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5">
            <a:hlinkClick r:id="rId12" action="ppaction://hlinksldjump"/>
          </p:cNvPr>
          <p:cNvSpPr/>
          <p:nvPr/>
        </p:nvSpPr>
        <p:spPr>
          <a:xfrm>
            <a:off x="342900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6">
            <a:hlinkClick r:id="rId13" action="ppaction://hlinksldjump"/>
          </p:cNvPr>
          <p:cNvSpPr/>
          <p:nvPr/>
        </p:nvSpPr>
        <p:spPr>
          <a:xfrm>
            <a:off x="34290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7">
            <a:hlinkClick r:id="rId14" action="ppaction://hlinksldjump"/>
          </p:cNvPr>
          <p:cNvSpPr/>
          <p:nvPr/>
        </p:nvSpPr>
        <p:spPr>
          <a:xfrm>
            <a:off x="3429000" y="39625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8">
            <a:hlinkClick r:id="rId15" action="ppaction://hlinksldjump"/>
          </p:cNvPr>
          <p:cNvSpPr/>
          <p:nvPr/>
        </p:nvSpPr>
        <p:spPr>
          <a:xfrm>
            <a:off x="3429000" y="19051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0"/>
          <p:cNvSpPr/>
          <p:nvPr/>
        </p:nvSpPr>
        <p:spPr>
          <a:xfrm>
            <a:off x="3581280" y="3124080"/>
            <a:ext cx="12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1"/>
          <p:cNvSpPr/>
          <p:nvPr/>
        </p:nvSpPr>
        <p:spPr>
          <a:xfrm>
            <a:off x="3581280" y="411480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2"/>
          <p:cNvSpPr/>
          <p:nvPr/>
        </p:nvSpPr>
        <p:spPr>
          <a:xfrm>
            <a:off x="35812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3"/>
          <p:cNvSpPr/>
          <p:nvPr/>
        </p:nvSpPr>
        <p:spPr>
          <a:xfrm>
            <a:off x="3581280" y="60199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4">
            <a:hlinkClick r:id="rId16" action="ppaction://hlinksldjump"/>
          </p:cNvPr>
          <p:cNvSpPr/>
          <p:nvPr/>
        </p:nvSpPr>
        <p:spPr>
          <a:xfrm>
            <a:off x="5029200" y="190512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5">
            <a:hlinkClick r:id="rId17" action="ppaction://hlinksldjump"/>
          </p:cNvPr>
          <p:cNvSpPr/>
          <p:nvPr/>
        </p:nvSpPr>
        <p:spPr>
          <a:xfrm>
            <a:off x="5029200" y="2971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6">
            <a:hlinkClick r:id="rId18" action="ppaction://hlinksldjump"/>
          </p:cNvPr>
          <p:cNvSpPr/>
          <p:nvPr/>
        </p:nvSpPr>
        <p:spPr>
          <a:xfrm>
            <a:off x="5029200" y="3962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7">
            <a:hlinkClick r:id="rId19" action="ppaction://hlinksldjump"/>
          </p:cNvPr>
          <p:cNvSpPr/>
          <p:nvPr/>
        </p:nvSpPr>
        <p:spPr>
          <a:xfrm>
            <a:off x="5029200" y="4952880"/>
            <a:ext cx="2286000" cy="914400"/>
          </a:xfrm>
          <a:custGeom>
            <a:avLst/>
            <a:gdLst>
              <a:gd name="textAreaLeft" fmla="*/ 59040 w 2286000"/>
              <a:gd name="textAreaRight" fmla="*/ 2226960 w 2286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8">
            <a:hlinkClick r:id="rId20" action="ppaction://hlinksldjump"/>
          </p:cNvPr>
          <p:cNvSpPr/>
          <p:nvPr/>
        </p:nvSpPr>
        <p:spPr>
          <a:xfrm>
            <a:off x="50292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9"/>
          <p:cNvSpPr/>
          <p:nvPr/>
        </p:nvSpPr>
        <p:spPr>
          <a:xfrm>
            <a:off x="54864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0"/>
          <p:cNvSpPr/>
          <p:nvPr/>
        </p:nvSpPr>
        <p:spPr>
          <a:xfrm>
            <a:off x="3581280" y="21337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1"/>
          <p:cNvSpPr/>
          <p:nvPr/>
        </p:nvSpPr>
        <p:spPr>
          <a:xfrm>
            <a:off x="54864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2"/>
          <p:cNvSpPr/>
          <p:nvPr/>
        </p:nvSpPr>
        <p:spPr>
          <a:xfrm>
            <a:off x="54864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3"/>
          <p:cNvSpPr/>
          <p:nvPr/>
        </p:nvSpPr>
        <p:spPr>
          <a:xfrm>
            <a:off x="54100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4"/>
          <p:cNvSpPr/>
          <p:nvPr/>
        </p:nvSpPr>
        <p:spPr>
          <a:xfrm>
            <a:off x="54864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5">
            <a:hlinkClick r:id="rId21" action="ppaction://hlinksldjump"/>
          </p:cNvPr>
          <p:cNvSpPr/>
          <p:nvPr/>
        </p:nvSpPr>
        <p:spPr>
          <a:xfrm>
            <a:off x="7315200" y="190512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6">
            <a:hlinkClick r:id="rId22" action="ppaction://hlinksldjump"/>
          </p:cNvPr>
          <p:cNvSpPr/>
          <p:nvPr/>
        </p:nvSpPr>
        <p:spPr>
          <a:xfrm>
            <a:off x="7315200" y="297180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7">
            <a:hlinkClick r:id="rId23" action="ppaction://hlinksldjump"/>
          </p:cNvPr>
          <p:cNvSpPr/>
          <p:nvPr/>
        </p:nvSpPr>
        <p:spPr>
          <a:xfrm>
            <a:off x="7315200" y="39625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8">
            <a:hlinkClick r:id="rId24" action="ppaction://hlinksldjump"/>
          </p:cNvPr>
          <p:cNvSpPr/>
          <p:nvPr/>
        </p:nvSpPr>
        <p:spPr>
          <a:xfrm>
            <a:off x="7315200" y="49528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9">
            <a:hlinkClick r:id="rId25" action="ppaction://hlinksldjump"/>
          </p:cNvPr>
          <p:cNvSpPr/>
          <p:nvPr/>
        </p:nvSpPr>
        <p:spPr>
          <a:xfrm>
            <a:off x="7315200" y="586728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0"/>
          <p:cNvSpPr/>
          <p:nvPr/>
        </p:nvSpPr>
        <p:spPr>
          <a:xfrm>
            <a:off x="75438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1"/>
          <p:cNvSpPr/>
          <p:nvPr/>
        </p:nvSpPr>
        <p:spPr>
          <a:xfrm>
            <a:off x="75438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2"/>
          <p:cNvSpPr/>
          <p:nvPr/>
        </p:nvSpPr>
        <p:spPr>
          <a:xfrm>
            <a:off x="75438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3"/>
          <p:cNvSpPr/>
          <p:nvPr/>
        </p:nvSpPr>
        <p:spPr>
          <a:xfrm>
            <a:off x="7543800" y="51055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4"/>
          <p:cNvSpPr/>
          <p:nvPr/>
        </p:nvSpPr>
        <p:spPr>
          <a:xfrm>
            <a:off x="75438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72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77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82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apital of Pennsylva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87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Harrisbur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on the pen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93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Rectangle 3"/>
          <p:cNvSpPr/>
          <p:nvPr/>
        </p:nvSpPr>
        <p:spPr>
          <a:xfrm>
            <a:off x="609480" y="30481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ABRAHAM LINCOL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re in a baker’s do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99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e crashes on the border of Canada and the USA where do you bury the surviv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205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3"/>
          <p:cNvSpPr/>
          <p:nvPr/>
        </p:nvSpPr>
        <p:spPr>
          <a:xfrm>
            <a:off x="609480" y="25909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You don’t bury survivors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a dark and cold room with nothing but a match, oil lamp, and oil furnace.  Which do you light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211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The match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which two cataracts on the Nile River is Meroe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it’s not on the Nile    B: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D: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>
            <a:hlinkClick r:id="rId1" action="ppaction://hlinksldjump"/>
          </p:cNvPr>
          <p:cNvSpPr/>
          <p:nvPr/>
        </p:nvSpPr>
        <p:spPr>
          <a:xfrm>
            <a:off x="7162920" y="5335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Nubians from Meroe get from the Rocky Dese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hickens  B: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ron ore  D: foxy la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7238880" y="38088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3" h="21600">
                <a:moveTo>
                  <a:pt x="16687" y="3837"/>
                </a:moveTo>
                <a:lnTo>
                  <a:pt x="19263" y="6448"/>
                </a:ln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lnTo>
                  <a:pt x="23650" y="10800"/>
                </a:lnTo>
                <a:lnTo>
                  <a:pt x="21996" y="10800"/>
                </a:lnTo>
                <a:lnTo>
                  <a:pt x="21996" y="17989"/>
                </a:lnTo>
                <a:lnTo>
                  <a:pt x="11377" y="17989"/>
                </a:lnTo>
                <a:lnTo>
                  <a:pt x="11377" y="10800"/>
                </a:lnTo>
                <a:lnTo>
                  <a:pt x="9724" y="10800"/>
                </a:lnTo>
                <a:close/>
              </a:path>
              <a:path fill="darkenLess" w="33373" h="21600">
                <a:moveTo>
                  <a:pt x="19263" y="6448"/>
                </a:move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close/>
              </a:path>
              <a:path fill="darkenLess" w="33373" h="21600">
                <a:moveTo>
                  <a:pt x="15764" y="14299"/>
                </a:moveTo>
                <a:lnTo>
                  <a:pt x="17609" y="14299"/>
                </a:lnTo>
                <a:lnTo>
                  <a:pt x="17609" y="17989"/>
                </a:lnTo>
                <a:lnTo>
                  <a:pt x="21996" y="17989"/>
                </a:lnTo>
                <a:lnTo>
                  <a:pt x="21996" y="10800"/>
                </a:lnTo>
                <a:lnTo>
                  <a:pt x="11377" y="10800"/>
                </a:lnTo>
                <a:lnTo>
                  <a:pt x="11377" y="17989"/>
                </a:lnTo>
                <a:lnTo>
                  <a:pt x="15764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>
            <a:hlinkClick r:id="rId1" action="ppaction://hlinksldjump"/>
          </p:cNvPr>
          <p:cNvSpPr/>
          <p:nvPr/>
        </p:nvSpPr>
        <p:spPr>
          <a:xfrm>
            <a:off x="7010280" y="304920"/>
            <a:ext cx="1295640" cy="838080"/>
          </a:xfrm>
          <a:custGeom>
            <a:avLst/>
            <a:gdLst>
              <a:gd name="textAreaLeft" fmla="*/ 54000 w 1295640"/>
              <a:gd name="textAreaRight" fmla="*/ 1241640 w 1295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88" h="21600">
                <a:moveTo>
                  <a:pt x="0" y="0"/>
                </a:moveTo>
                <a:lnTo>
                  <a:pt x="33388" y="0"/>
                </a:lnTo>
                <a:lnTo>
                  <a:pt x="33388" y="21600"/>
                </a:lnTo>
                <a:lnTo>
                  <a:pt x="0" y="21600"/>
                </a:lnTo>
                <a:close/>
              </a:path>
              <a:path fill="lightenLess" w="33388" h="21600">
                <a:moveTo>
                  <a:pt x="0" y="0"/>
                </a:moveTo>
                <a:lnTo>
                  <a:pt x="33388" y="0"/>
                </a:lnTo>
                <a:lnTo>
                  <a:pt x="31988" y="1400"/>
                </a:lnTo>
                <a:lnTo>
                  <a:pt x="1400" y="1400"/>
                </a:lnTo>
                <a:close/>
              </a:path>
              <a:path fill="darken" w="33388" h="21600">
                <a:moveTo>
                  <a:pt x="33388" y="0"/>
                </a:moveTo>
                <a:lnTo>
                  <a:pt x="33388" y="21600"/>
                </a:lnTo>
                <a:lnTo>
                  <a:pt x="31988" y="20200"/>
                </a:lnTo>
                <a:lnTo>
                  <a:pt x="31988" y="1400"/>
                </a:lnTo>
                <a:close/>
              </a:path>
              <a:path fill="darkenLess" w="33388" h="21600">
                <a:moveTo>
                  <a:pt x="3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8" y="20200"/>
                </a:lnTo>
                <a:close/>
              </a:path>
              <a:path fill="lighten" w="3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88" h="21600">
                <a:moveTo>
                  <a:pt x="16694" y="3837"/>
                </a:moveTo>
                <a:lnTo>
                  <a:pt x="19270" y="6448"/>
                </a:lnTo>
                <a:lnTo>
                  <a:pt x="19270" y="4707"/>
                </a:lnTo>
                <a:lnTo>
                  <a:pt x="21046" y="4707"/>
                </a:lnTo>
                <a:lnTo>
                  <a:pt x="21046" y="8224"/>
                </a:lnTo>
                <a:lnTo>
                  <a:pt x="23657" y="10800"/>
                </a:lnTo>
                <a:lnTo>
                  <a:pt x="22003" y="10800"/>
                </a:lnTo>
                <a:lnTo>
                  <a:pt x="22003" y="17989"/>
                </a:lnTo>
                <a:lnTo>
                  <a:pt x="11385" y="17989"/>
                </a:lnTo>
                <a:lnTo>
                  <a:pt x="11385" y="10800"/>
                </a:lnTo>
                <a:lnTo>
                  <a:pt x="9731" y="10800"/>
                </a:lnTo>
                <a:close/>
              </a:path>
              <a:path fill="darkenLess" w="33388" h="21600">
                <a:moveTo>
                  <a:pt x="19270" y="6448"/>
                </a:moveTo>
                <a:lnTo>
                  <a:pt x="19270" y="4707"/>
                </a:lnTo>
                <a:lnTo>
                  <a:pt x="21046" y="4707"/>
                </a:lnTo>
                <a:lnTo>
                  <a:pt x="21046" y="8224"/>
                </a:lnTo>
                <a:close/>
              </a:path>
              <a:path fill="darkenLess" w="33388" h="21600">
                <a:moveTo>
                  <a:pt x="15771" y="14299"/>
                </a:moveTo>
                <a:lnTo>
                  <a:pt x="17616" y="14299"/>
                </a:lnTo>
                <a:lnTo>
                  <a:pt x="17616" y="17989"/>
                </a:lnTo>
                <a:lnTo>
                  <a:pt x="22003" y="17989"/>
                </a:lnTo>
                <a:lnTo>
                  <a:pt x="22003" y="10800"/>
                </a:lnTo>
                <a:lnTo>
                  <a:pt x="11385" y="10800"/>
                </a:lnTo>
                <a:lnTo>
                  <a:pt x="11385" y="17989"/>
                </a:lnTo>
                <a:lnTo>
                  <a:pt x="15771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7:33Z</dcterms:created>
  <dc:creator>Default</dc:creator>
  <dc:description/>
  <dc:language>en-US</dc:language>
  <cp:lastModifiedBy>Default</cp:lastModifiedBy>
  <dcterms:modified xsi:type="dcterms:W3CDTF">2009-01-14T18:01:46Z</dcterms:modified>
  <cp:revision>9</cp:revision>
  <dc:subject/>
  <dc:title>Slide 1</dc:title>
</cp:coreProperties>
</file>